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EF8A-75E6-4FCA-B9EA-DC982CCB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FA78-849D-46BD-A8BF-668C5D7B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DE00-D0D0-46C1-ABD6-40760370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40D5-8A26-488F-8348-B4047CE2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0971-2BD8-479B-9141-8EA35C6E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3444-E40E-4278-AD8B-80E39CE5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E4C8-E28D-417F-9216-4471B722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A0AD-CAE0-452C-BADC-471E7E58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9AED-0FC5-4307-AC45-821904F9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95000" y="27756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AEBA-F8BA-4C6E-A214-51FB68FA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B542-D25E-4D7C-A49E-6F23DC9E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6E50-A59F-4E75-8E78-2A37ED36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F6C5-20F5-496C-98CF-BC23187F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294A-FA8D-4FE0-856E-6BE308CF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E5F3-90AF-44A2-9DE7-91F0F5FD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0DC8-0600-4447-89FB-17944B3F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1092-E446-41AD-B926-6EA37A16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265B-8233-4672-9CDD-B78658D5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42DE-D908-4C0F-A562-85935E96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5FB5-D3B2-4F09-8257-F5E746E3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95000" y="27756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9E29-7AAD-4AA0-8823-80815EDD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E1D9-9805-4161-BE00-6C22D699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4937-8C4E-4791-ADFF-BCCEEA92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B3F6-F0E6-49CC-9EAB-2A78920B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905760" cy="6856560"/>
            <a:chOff x="0" y="0"/>
            <a:chExt cx="99057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902520" cy="5195880"/>
            </a:xfrm>
            <a:custGeom>
              <a:avLst/>
              <a:gdLst>
                <a:gd name="textAreaLeft" fmla="*/ 0 w 9902520"/>
                <a:gd name="textAreaRight" fmla="*/ 9902880 w 990252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55960" y="0"/>
              <a:ext cx="9648000" cy="5148360"/>
            </a:xfrm>
            <a:custGeom>
              <a:avLst/>
              <a:gdLst>
                <a:gd name="textAreaLeft" fmla="*/ 0 w 9648000"/>
                <a:gd name="textAreaRight" fmla="*/ 9648360 w 964800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944400" cy="303120"/>
            </a:xfrm>
            <a:custGeom>
              <a:avLst/>
              <a:gdLst>
                <a:gd name="textAreaLeft" fmla="*/ 0 w 6944400"/>
                <a:gd name="textAreaRight" fmla="*/ 6944760 w 69444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944400" y="5678640"/>
              <a:ext cx="2958120" cy="102960"/>
            </a:xfrm>
            <a:custGeom>
              <a:avLst/>
              <a:gdLst>
                <a:gd name="textAreaLeft" fmla="*/ 0 w 2958120"/>
                <a:gd name="textAreaRight" fmla="*/ 2958480 w 29581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8227440" cy="522000"/>
            </a:xfrm>
            <a:custGeom>
              <a:avLst/>
              <a:gdLst>
                <a:gd name="textAreaLeft" fmla="*/ 0 w 8227440"/>
                <a:gd name="textAreaRight" fmla="*/ 8227800 w 822744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227440" y="5877000"/>
              <a:ext cx="1674720" cy="160200"/>
            </a:xfrm>
            <a:custGeom>
              <a:avLst/>
              <a:gdLst>
                <a:gd name="textAreaLeft" fmla="*/ 0 w 1674720"/>
                <a:gd name="textAreaRight" fmla="*/ 1675080 w 16747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4040" y="6056280"/>
              <a:ext cx="3678480" cy="314280"/>
            </a:xfrm>
            <a:custGeom>
              <a:avLst/>
              <a:gdLst>
                <a:gd name="textAreaLeft" fmla="*/ 0 w 3678480"/>
                <a:gd name="textAreaRight" fmla="*/ 3678840 w 36784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6224040" cy="552600"/>
            </a:xfrm>
            <a:custGeom>
              <a:avLst/>
              <a:gdLst>
                <a:gd name="textAreaLeft" fmla="*/ 0 w 6224040"/>
                <a:gd name="textAreaRight" fmla="*/ 6224400 w 62240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06120" y="6418440"/>
              <a:ext cx="4323240" cy="438120"/>
            </a:xfrm>
            <a:custGeom>
              <a:avLst/>
              <a:gdLst>
                <a:gd name="textAreaLeft" fmla="*/ 0 w 4323240"/>
                <a:gd name="textAreaRight" fmla="*/ 4323600 w 432324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7488000" y="6141960"/>
              <a:ext cx="2414160" cy="600120"/>
            </a:xfrm>
            <a:custGeom>
              <a:avLst/>
              <a:gdLst>
                <a:gd name="textAreaLeft" fmla="*/ 0 w 2414160"/>
                <a:gd name="textAreaRight" fmla="*/ 2414520 w 24141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650440" y="5002200"/>
              <a:ext cx="1251720" cy="380880"/>
            </a:xfrm>
            <a:custGeom>
              <a:avLst/>
              <a:gdLst>
                <a:gd name="textAreaLeft" fmla="*/ 0 w 1251720"/>
                <a:gd name="textAreaRight" fmla="*/ 1251720 w 12517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8650440" cy="2652480"/>
            </a:xfrm>
            <a:custGeom>
              <a:avLst/>
              <a:gdLst>
                <a:gd name="textAreaLeft" fmla="*/ 0 w 8650440"/>
                <a:gd name="textAreaRight" fmla="*/ 8650800 w 865044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8650440" y="4840200"/>
              <a:ext cx="1251720" cy="505080"/>
            </a:xfrm>
            <a:custGeom>
              <a:avLst/>
              <a:gdLst>
                <a:gd name="textAreaLeft" fmla="*/ 0 w 1251720"/>
                <a:gd name="textAreaRight" fmla="*/ 1251720 w 125172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8650440" cy="3471840"/>
            </a:xfrm>
            <a:custGeom>
              <a:avLst/>
              <a:gdLst>
                <a:gd name="textAreaLeft" fmla="*/ 0 w 8650440"/>
                <a:gd name="textAreaRight" fmla="*/ 8650800 w 865044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945240" y="0"/>
              <a:ext cx="5432400" cy="4325760"/>
            </a:xfrm>
            <a:custGeom>
              <a:avLst/>
              <a:gdLst>
                <a:gd name="textAreaLeft" fmla="*/ 0 w 5432400"/>
                <a:gd name="textAreaRight" fmla="*/ 5432760 w 54324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9347040" y="4289400"/>
              <a:ext cx="555120" cy="474840"/>
            </a:xfrm>
            <a:custGeom>
              <a:avLst/>
              <a:gdLst>
                <a:gd name="textAreaLeft" fmla="*/ 0 w 555120"/>
                <a:gd name="textAreaRight" fmla="*/ 555480 w 5551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9419040" y="4108320"/>
              <a:ext cx="484920" cy="532080"/>
            </a:xfrm>
            <a:custGeom>
              <a:avLst/>
              <a:gdLst>
                <a:gd name="textAreaLeft" fmla="*/ 0 w 484920"/>
                <a:gd name="textAreaRight" fmla="*/ 485280 w 4849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219920" y="0"/>
              <a:ext cx="5362200" cy="4251240"/>
            </a:xfrm>
            <a:custGeom>
              <a:avLst/>
              <a:gdLst>
                <a:gd name="textAreaLeft" fmla="*/ 0 w 5362200"/>
                <a:gd name="textAreaRight" fmla="*/ 5362200 w 536220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675360" y="4022640"/>
              <a:ext cx="226800" cy="20952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351760" y="0"/>
              <a:ext cx="4323240" cy="4022640"/>
            </a:xfrm>
            <a:custGeom>
              <a:avLst/>
              <a:gdLst>
                <a:gd name="textAreaLeft" fmla="*/ 0 w 4323240"/>
                <a:gd name="textAreaRight" fmla="*/ 4323600 w 432324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998320" y="0"/>
              <a:ext cx="3780000" cy="3936960"/>
            </a:xfrm>
            <a:custGeom>
              <a:avLst/>
              <a:gdLst>
                <a:gd name="textAreaLeft" fmla="*/ 0 w 3780000"/>
                <a:gd name="textAreaRight" fmla="*/ 3780360 w 378000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758160" y="3927600"/>
              <a:ext cx="144000" cy="1522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636120" y="1349280"/>
              <a:ext cx="266040" cy="819360"/>
            </a:xfrm>
            <a:custGeom>
              <a:avLst/>
              <a:gdLst>
                <a:gd name="textAreaLeft" fmla="*/ 0 w 266040"/>
                <a:gd name="textAreaRight" fmla="*/ 266400 w 2660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782560" y="0"/>
              <a:ext cx="983880" cy="1654200"/>
            </a:xfrm>
            <a:custGeom>
              <a:avLst/>
              <a:gdLst>
                <a:gd name="textAreaLeft" fmla="*/ 0 w 983880"/>
                <a:gd name="textAreaRight" fmla="*/ 984240 w 98388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05640" y="0"/>
              <a:ext cx="586440" cy="1263600"/>
            </a:xfrm>
            <a:custGeom>
              <a:avLst/>
              <a:gdLst>
                <a:gd name="textAreaLeft" fmla="*/ 0 w 586440"/>
                <a:gd name="textAreaRight" fmla="*/ 586800 w 586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799560" y="1036800"/>
              <a:ext cx="102960" cy="4935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893880" cy="2959200"/>
            </a:xfrm>
            <a:custGeom>
              <a:avLst/>
              <a:gdLst>
                <a:gd name="textAreaLeft" fmla="*/ 0 w 9893880"/>
                <a:gd name="textAreaRight" fmla="*/ 9894240 w 989388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895680" y="5529240"/>
              <a:ext cx="10080" cy="97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893880" cy="2122560"/>
            </a:xfrm>
            <a:custGeom>
              <a:avLst/>
              <a:gdLst>
                <a:gd name="textAreaLeft" fmla="*/ 0 w 9893880"/>
                <a:gd name="textAreaRight" fmla="*/ 9894240 w 989388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893880" cy="657000"/>
            </a:xfrm>
            <a:custGeom>
              <a:avLst/>
              <a:gdLst>
                <a:gd name="textAreaLeft" fmla="*/ 0 w 9893880"/>
                <a:gd name="textAreaRight" fmla="*/ 9894240 w 989388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230200" y="0"/>
              <a:ext cx="7666920" cy="5043600"/>
            </a:xfrm>
            <a:custGeom>
              <a:avLst/>
              <a:gdLst>
                <a:gd name="textAreaLeft" fmla="*/ 0 w 7666920"/>
                <a:gd name="textAreaRight" fmla="*/ 7667280 w 766692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711400" y="0"/>
              <a:ext cx="4184280" cy="4149720"/>
            </a:xfrm>
            <a:custGeom>
              <a:avLst/>
              <a:gdLst>
                <a:gd name="textAreaLeft" fmla="*/ 0 w 4184280"/>
                <a:gd name="textAreaRight" fmla="*/ 4184640 w 418428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792840" y="0"/>
              <a:ext cx="3104280" cy="3911760"/>
            </a:xfrm>
            <a:custGeom>
              <a:avLst/>
              <a:gdLst>
                <a:gd name="textAreaLeft" fmla="*/ 0 w 3104280"/>
                <a:gd name="textAreaRight" fmla="*/ 3104640 w 310428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771680" y="0"/>
              <a:ext cx="2123640" cy="3292560"/>
            </a:xfrm>
            <a:custGeom>
              <a:avLst/>
              <a:gdLst>
                <a:gd name="textAreaLeft" fmla="*/ 0 w 2123640"/>
                <a:gd name="textAreaRight" fmla="*/ 2124000 w 212364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8072640" y="0"/>
              <a:ext cx="1824480" cy="3073320"/>
            </a:xfrm>
            <a:custGeom>
              <a:avLst/>
              <a:gdLst>
                <a:gd name="textAreaLeft" fmla="*/ 0 w 1824480"/>
                <a:gd name="textAreaRight" fmla="*/ 1824840 w 182448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8566200" y="0"/>
              <a:ext cx="1330920" cy="2360520"/>
            </a:xfrm>
            <a:custGeom>
              <a:avLst/>
              <a:gdLst>
                <a:gd name="textAreaLeft" fmla="*/ 0 w 1330920"/>
                <a:gd name="textAreaRight" fmla="*/ 1331280 w 133092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902160" cy="2949480"/>
              <a:chOff x="0" y="2590920"/>
              <a:chExt cx="99021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6311520" cy="2084400"/>
              </a:xfrm>
              <a:custGeom>
                <a:avLst/>
                <a:gdLst>
                  <a:gd name="textAreaLeft" fmla="*/ 0 w 6311520"/>
                  <a:gd name="textAreaRight" fmla="*/ 6311880 w 631152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6270120" y="4437000"/>
                <a:ext cx="3632040" cy="1103400"/>
              </a:xfrm>
              <a:custGeom>
                <a:avLst/>
                <a:gdLst>
                  <a:gd name="textAreaLeft" fmla="*/ 0 w 3632040"/>
                  <a:gd name="textAreaRight" fmla="*/ 3632400 w 363204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F381-9223-4453-85E2-E5BD2F01F9B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905760" cy="6856560"/>
            <a:chOff x="0" y="0"/>
            <a:chExt cx="990576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902520" cy="5195880"/>
            </a:xfrm>
            <a:custGeom>
              <a:avLst/>
              <a:gdLst>
                <a:gd name="textAreaLeft" fmla="*/ 0 w 9902520"/>
                <a:gd name="textAreaRight" fmla="*/ 9902880 w 990252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55960" y="0"/>
              <a:ext cx="9648000" cy="5148360"/>
            </a:xfrm>
            <a:custGeom>
              <a:avLst/>
              <a:gdLst>
                <a:gd name="textAreaLeft" fmla="*/ 0 w 9648000"/>
                <a:gd name="textAreaRight" fmla="*/ 9648360 w 964800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944400" cy="303120"/>
            </a:xfrm>
            <a:custGeom>
              <a:avLst/>
              <a:gdLst>
                <a:gd name="textAreaLeft" fmla="*/ 0 w 6944400"/>
                <a:gd name="textAreaRight" fmla="*/ 6944760 w 69444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944400" y="5678640"/>
              <a:ext cx="2958120" cy="102960"/>
            </a:xfrm>
            <a:custGeom>
              <a:avLst/>
              <a:gdLst>
                <a:gd name="textAreaLeft" fmla="*/ 0 w 2958120"/>
                <a:gd name="textAreaRight" fmla="*/ 2958480 w 29581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8227440" cy="522000"/>
            </a:xfrm>
            <a:custGeom>
              <a:avLst/>
              <a:gdLst>
                <a:gd name="textAreaLeft" fmla="*/ 0 w 8227440"/>
                <a:gd name="textAreaRight" fmla="*/ 8227800 w 822744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8227440" y="5877000"/>
              <a:ext cx="1674720" cy="160200"/>
            </a:xfrm>
            <a:custGeom>
              <a:avLst/>
              <a:gdLst>
                <a:gd name="textAreaLeft" fmla="*/ 0 w 1674720"/>
                <a:gd name="textAreaRight" fmla="*/ 1675080 w 16747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6224040" y="6056280"/>
              <a:ext cx="3678480" cy="314280"/>
            </a:xfrm>
            <a:custGeom>
              <a:avLst/>
              <a:gdLst>
                <a:gd name="textAreaLeft" fmla="*/ 0 w 3678480"/>
                <a:gd name="textAreaRight" fmla="*/ 3678840 w 36784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6224040" cy="552600"/>
            </a:xfrm>
            <a:custGeom>
              <a:avLst/>
              <a:gdLst>
                <a:gd name="textAreaLeft" fmla="*/ 0 w 6224040"/>
                <a:gd name="textAreaRight" fmla="*/ 6224400 w 62240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606120" y="6418440"/>
              <a:ext cx="4323240" cy="438120"/>
            </a:xfrm>
            <a:custGeom>
              <a:avLst/>
              <a:gdLst>
                <a:gd name="textAreaLeft" fmla="*/ 0 w 4323240"/>
                <a:gd name="textAreaRight" fmla="*/ 4323600 w 432324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7488000" y="6141960"/>
              <a:ext cx="2414160" cy="600120"/>
            </a:xfrm>
            <a:custGeom>
              <a:avLst/>
              <a:gdLst>
                <a:gd name="textAreaLeft" fmla="*/ 0 w 2414160"/>
                <a:gd name="textAreaRight" fmla="*/ 2414520 w 24141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8650440" y="5002200"/>
              <a:ext cx="1251720" cy="380880"/>
            </a:xfrm>
            <a:custGeom>
              <a:avLst/>
              <a:gdLst>
                <a:gd name="textAreaLeft" fmla="*/ 0 w 1251720"/>
                <a:gd name="textAreaRight" fmla="*/ 1251720 w 12517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8650440" cy="2652480"/>
            </a:xfrm>
            <a:custGeom>
              <a:avLst/>
              <a:gdLst>
                <a:gd name="textAreaLeft" fmla="*/ 0 w 8650440"/>
                <a:gd name="textAreaRight" fmla="*/ 8650800 w 865044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8650440" y="4840200"/>
              <a:ext cx="1251720" cy="505080"/>
            </a:xfrm>
            <a:custGeom>
              <a:avLst/>
              <a:gdLst>
                <a:gd name="textAreaLeft" fmla="*/ 0 w 1251720"/>
                <a:gd name="textAreaRight" fmla="*/ 1251720 w 125172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8650440" cy="3471840"/>
            </a:xfrm>
            <a:custGeom>
              <a:avLst/>
              <a:gdLst>
                <a:gd name="textAreaLeft" fmla="*/ 0 w 8650440"/>
                <a:gd name="textAreaRight" fmla="*/ 8650800 w 865044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945240" y="0"/>
              <a:ext cx="5432400" cy="4325760"/>
            </a:xfrm>
            <a:custGeom>
              <a:avLst/>
              <a:gdLst>
                <a:gd name="textAreaLeft" fmla="*/ 0 w 5432400"/>
                <a:gd name="textAreaRight" fmla="*/ 5432760 w 54324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9347040" y="4289400"/>
              <a:ext cx="555120" cy="474840"/>
            </a:xfrm>
            <a:custGeom>
              <a:avLst/>
              <a:gdLst>
                <a:gd name="textAreaLeft" fmla="*/ 0 w 555120"/>
                <a:gd name="textAreaRight" fmla="*/ 555480 w 5551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9419040" y="4108320"/>
              <a:ext cx="484920" cy="532080"/>
            </a:xfrm>
            <a:custGeom>
              <a:avLst/>
              <a:gdLst>
                <a:gd name="textAreaLeft" fmla="*/ 0 w 484920"/>
                <a:gd name="textAreaRight" fmla="*/ 485280 w 4849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4219920" y="0"/>
              <a:ext cx="5362200" cy="4251240"/>
            </a:xfrm>
            <a:custGeom>
              <a:avLst/>
              <a:gdLst>
                <a:gd name="textAreaLeft" fmla="*/ 0 w 5362200"/>
                <a:gd name="textAreaRight" fmla="*/ 5362200 w 536220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9675360" y="4022640"/>
              <a:ext cx="226800" cy="20952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5351760" y="0"/>
              <a:ext cx="4323240" cy="4022640"/>
            </a:xfrm>
            <a:custGeom>
              <a:avLst/>
              <a:gdLst>
                <a:gd name="textAreaLeft" fmla="*/ 0 w 4323240"/>
                <a:gd name="textAreaRight" fmla="*/ 4323600 w 432324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998320" y="0"/>
              <a:ext cx="3780000" cy="3936960"/>
            </a:xfrm>
            <a:custGeom>
              <a:avLst/>
              <a:gdLst>
                <a:gd name="textAreaLeft" fmla="*/ 0 w 3780000"/>
                <a:gd name="textAreaRight" fmla="*/ 3780360 w 378000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758160" y="3927600"/>
              <a:ext cx="144000" cy="1522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9636120" y="1349280"/>
              <a:ext cx="266040" cy="819360"/>
            </a:xfrm>
            <a:custGeom>
              <a:avLst/>
              <a:gdLst>
                <a:gd name="textAreaLeft" fmla="*/ 0 w 266040"/>
                <a:gd name="textAreaRight" fmla="*/ 266400 w 2660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782560" y="0"/>
              <a:ext cx="983880" cy="1654200"/>
            </a:xfrm>
            <a:custGeom>
              <a:avLst/>
              <a:gdLst>
                <a:gd name="textAreaLeft" fmla="*/ 0 w 983880"/>
                <a:gd name="textAreaRight" fmla="*/ 984240 w 98388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9305640" y="0"/>
              <a:ext cx="586440" cy="1263600"/>
            </a:xfrm>
            <a:custGeom>
              <a:avLst/>
              <a:gdLst>
                <a:gd name="textAreaLeft" fmla="*/ 0 w 586440"/>
                <a:gd name="textAreaRight" fmla="*/ 586800 w 586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799560" y="1036800"/>
              <a:ext cx="102960" cy="4935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893880" cy="2959200"/>
            </a:xfrm>
            <a:custGeom>
              <a:avLst/>
              <a:gdLst>
                <a:gd name="textAreaLeft" fmla="*/ 0 w 9893880"/>
                <a:gd name="textAreaRight" fmla="*/ 9894240 w 989388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895680" y="5529240"/>
              <a:ext cx="10080" cy="97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893880" cy="2122560"/>
            </a:xfrm>
            <a:custGeom>
              <a:avLst/>
              <a:gdLst>
                <a:gd name="textAreaLeft" fmla="*/ 0 w 9893880"/>
                <a:gd name="textAreaRight" fmla="*/ 9894240 w 989388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893880" cy="657000"/>
            </a:xfrm>
            <a:custGeom>
              <a:avLst/>
              <a:gdLst>
                <a:gd name="textAreaLeft" fmla="*/ 0 w 9893880"/>
                <a:gd name="textAreaRight" fmla="*/ 9894240 w 989388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230200" y="0"/>
              <a:ext cx="7666920" cy="5043600"/>
            </a:xfrm>
            <a:custGeom>
              <a:avLst/>
              <a:gdLst>
                <a:gd name="textAreaLeft" fmla="*/ 0 w 7666920"/>
                <a:gd name="textAreaRight" fmla="*/ 7667280 w 766692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711400" y="0"/>
              <a:ext cx="4184280" cy="4149720"/>
            </a:xfrm>
            <a:custGeom>
              <a:avLst/>
              <a:gdLst>
                <a:gd name="textAreaLeft" fmla="*/ 0 w 4184280"/>
                <a:gd name="textAreaRight" fmla="*/ 4184640 w 418428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792840" y="0"/>
              <a:ext cx="3104280" cy="3911760"/>
            </a:xfrm>
            <a:custGeom>
              <a:avLst/>
              <a:gdLst>
                <a:gd name="textAreaLeft" fmla="*/ 0 w 3104280"/>
                <a:gd name="textAreaRight" fmla="*/ 3104640 w 310428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771680" y="0"/>
              <a:ext cx="2123640" cy="3292560"/>
            </a:xfrm>
            <a:custGeom>
              <a:avLst/>
              <a:gdLst>
                <a:gd name="textAreaLeft" fmla="*/ 0 w 2123640"/>
                <a:gd name="textAreaRight" fmla="*/ 2124000 w 212364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8072640" y="0"/>
              <a:ext cx="1824480" cy="3073320"/>
            </a:xfrm>
            <a:custGeom>
              <a:avLst/>
              <a:gdLst>
                <a:gd name="textAreaLeft" fmla="*/ 0 w 1824480"/>
                <a:gd name="textAreaRight" fmla="*/ 1824840 w 182448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8566200" y="0"/>
              <a:ext cx="1330920" cy="2360520"/>
            </a:xfrm>
            <a:custGeom>
              <a:avLst/>
              <a:gdLst>
                <a:gd name="textAreaLeft" fmla="*/ 0 w 1330920"/>
                <a:gd name="textAreaRight" fmla="*/ 1331280 w 133092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902160" cy="2949480"/>
              <a:chOff x="0" y="2590920"/>
              <a:chExt cx="99021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6311520" cy="2084400"/>
              </a:xfrm>
              <a:custGeom>
                <a:avLst/>
                <a:gdLst>
                  <a:gd name="textAreaLeft" fmla="*/ 0 w 6311520"/>
                  <a:gd name="textAreaRight" fmla="*/ 6311880 w 631152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6270120" y="4437000"/>
                <a:ext cx="3632040" cy="1103400"/>
              </a:xfrm>
              <a:custGeom>
                <a:avLst/>
                <a:gdLst>
                  <a:gd name="textAreaLeft" fmla="*/ 0 w 3632040"/>
                  <a:gd name="textAreaRight" fmla="*/ 3632400 w 363204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B4BB-386E-414F-B818-64DA010AC6D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2082240" y="404640"/>
            <a:ext cx="571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PRIMENA LEKOVA U TRUDNO</a:t>
            </a:r>
            <a:r>
              <a:rPr b="1" lang="sr-Latn-CS" sz="2800" spc="-1" strike="noStrike">
                <a:solidFill>
                  <a:srgbClr val="00ff00"/>
                </a:solidFill>
                <a:latin typeface="Arial"/>
              </a:rPr>
              <a:t>Ć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76160" y="1557360"/>
            <a:ext cx="9129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Lekovi u trudnoći se mogu primenjivati sa cilje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Lečenja bolesti majke (c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elon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h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r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Lečenja bolesti koja pogađa i plod i majku (sifil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Lečenja bolesti koja pogađa plod (aritmije u srčanom radu plod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861120" y="476280"/>
            <a:ext cx="80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SPECIJALNA PRIMENA LEKOVA U TRUDNOĆ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0" y="1341360"/>
            <a:ext cx="9906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d pretećeg ili započetog spontanog pobačaja (progester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d prisutnih antifosfolipidnih antitela – lupus antikoagulantna i antikardiolipinska (pronizon 5 mg/dnevno, aspirin 70-80 mg/dnevno, fraxiparin I.J. / T.T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d toksoplazmoze (spiramicin 2-3 g/dnevno per os, sulfonamid nakon 20 N.G. Nelečeni slučajevi duplo više sekvela kod neonatu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d respiratornog distres sindroma (deksametaz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12 mg/12h, tiroksin 500 mg/dnevn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d polihidramniona (indometacin 3mg /kg, per os - rektaln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0" y="1052640"/>
            <a:ext cx="9906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d intraventrikularne hemoragije pretemporarijusa (fenobarbiton pre porodjaja, vitamin K 10mg i.m. ↑ sintezu faktora koagulacij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d IUGR zbog preeklampsije (aspirin 100 mg/dnevno, ↓ sintezu tromboksana – snažan vazokonstrik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d prevremenog prsnuća plodovih ovojaka (ampicilin, cefalospor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d intrauterine reanimacije ploda (2 amp. Pre-par u 500ml, 5% glukoze, 40ml 50% glycosa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d aritmije fetalnog srca (digitalis 0,25 – 0,75 mg/dnevno, propranolol – verapamil 40 mg/12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1350720" y="476280"/>
            <a:ext cx="709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PRIMENA ANTIBIOTIKA U AKUŠERST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00160" y="1125360"/>
            <a:ext cx="9705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Tetracyclini (doze veće od 2g)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     kod majke masna atrofija jetre, oštećenje pankreasa i bubrega, kod ploda poremećaj u razvoju kostiju i tamnu prebojenost zu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Sulphonamidi         kenikterus novorođenčeta – istiskuju bilirubin iz spoja sa albumin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Chloramphenicol         slabija detoksikacija - grey sindrom (distenzija abdomena, cijanoza, kolaps, smr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Srteptomycin           oštećenje osmog kranijalnog nerva plo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Metronidasol           kod glodara pojava karcino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Riphampicin           kod životinja teratogena svojst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4881600" y="1341360"/>
            <a:ext cx="431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720880" y="285264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3152880" y="3573360"/>
            <a:ext cx="431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>
            <a:off x="2720880" y="465300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2720880" y="537372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2649600" y="6093000"/>
            <a:ext cx="431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3177360" y="476280"/>
            <a:ext cx="34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DOJENJE I LEKOV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23800" y="1143000"/>
            <a:ext cx="938232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b050"/>
                </a:solidFill>
                <a:latin typeface="Arial"/>
              </a:rPr>
              <a:t>Transfer leka u mleko zavisi od svojstva leka, krvotoka dojke i sastava mleka. Slabe baze su u kiseloj plazmi slabo jonizovane, pa prelaze u mleko gde se jonizuju. Slabih kiselina ima u manjoj ko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Etanol          sedacija be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fein          budnost, hiperaktiv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Nikotin          muka, povraćanje, grčevi u stomaku, prol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enicilini i cefalosporini           poremećaj crevne fl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Tetraciklini         sprečena apsorpcija leka kod odojč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Chloramphenicol         depresija koštane srž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Isoniazid         oštećenje jetre be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Heparin           u mleku samo u trag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Metoclopramid        stimuliše oslobađanje prolak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2073240" y="263700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2073240" y="314172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8"/>
          <p:cNvSpPr/>
          <p:nvPr/>
        </p:nvSpPr>
        <p:spPr>
          <a:xfrm>
            <a:off x="2073240" y="364500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4305240" y="407664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0"/>
          <p:cNvSpPr/>
          <p:nvPr/>
        </p:nvSpPr>
        <p:spPr>
          <a:xfrm>
            <a:off x="2576520" y="4581360"/>
            <a:ext cx="431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1"/>
          <p:cNvSpPr/>
          <p:nvPr/>
        </p:nvSpPr>
        <p:spPr>
          <a:xfrm>
            <a:off x="3368520" y="501336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2216160" y="5516640"/>
            <a:ext cx="431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>
            <a:off x="2216160" y="6093000"/>
            <a:ext cx="431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4"/>
          <p:cNvSpPr/>
          <p:nvPr/>
        </p:nvSpPr>
        <p:spPr>
          <a:xfrm>
            <a:off x="3081240" y="652464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2440800" y="476280"/>
            <a:ext cx="493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VAKCINACIJA U TRUDNOĆ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272880" y="1214280"/>
            <a:ext cx="9166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Vakcinacijom se postiže imunizacija i može se efikasno preduprediti nastanak mnogih teških bolesti, a klinička slika i komplikacije se mogu značajno ublaži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Aktivna imunizacija (davanje umrtvljenih živih sojeva mikroorganizama, mrtvih mikroba, delova mikroba ili egzotoksina – toksoida)        produkcija antitela i dugotrajna zašti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asivna imunizacija (davanje preparata sa prethodno stvorenim antitelima protiv određene bolesti)        nastupa odmah i relativno kratko traje – kratak poluživot IgG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6"/>
          <p:cNvSpPr/>
          <p:nvPr/>
        </p:nvSpPr>
        <p:spPr>
          <a:xfrm>
            <a:off x="4160880" y="3645000"/>
            <a:ext cx="431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7"/>
          <p:cNvSpPr/>
          <p:nvPr/>
        </p:nvSpPr>
        <p:spPr>
          <a:xfrm>
            <a:off x="6897600" y="508464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2440800" y="476280"/>
            <a:ext cx="493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VAKCINACIJA U TRUDNOĆ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72880" y="1197000"/>
            <a:ext cx="9166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b050"/>
                </a:solidFill>
                <a:latin typeface="Arial"/>
              </a:rPr>
              <a:t>Prilikom davanja vakcine mogu se javiti odredjene reakcije u vidu lokalnog otoka, crvenila, bo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Osobe sa imunodeficijencijom ne priumaju žive vakcin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Vakcina protiv rubele – bolovi u predelu zglobo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Vakcina protiv pertusisa – hiperpirekcija, encefalopat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Vakcina protiv tetanusa – kožna reakcija (Artusov fenom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MMR vakcinu ne primaju osobe oserljive na Neomicin i kokošija ja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olio vakcinu ne primaju osobe oserljive na Streptomic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Žive vakcine mogu izazvati patnju ploda i teratogeni efekat – upotreba samo kada je benefit veći od mogućih posled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2797920" y="0"/>
            <a:ext cx="48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PREGLED P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JEDINIH VAKC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72880" y="528480"/>
          <a:ext cx="9217080" cy="6336000"/>
        </p:xfrm>
        <a:graphic>
          <a:graphicData uri="http://schemas.openxmlformats.org/drawingml/2006/table">
            <a:tbl>
              <a:tblPr/>
              <a:tblGrid>
                <a:gridCol w="3384720"/>
                <a:gridCol w="3095640"/>
                <a:gridCol w="2736720"/>
              </a:tblGrid>
              <a:tr h="459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AKCI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MOGUĆA PRIMENA U TRUDNOĆI AKO POSTOJI INDIKACIJ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PRIMENA U TRUDNOĆI KONTRAINDIKOVA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trak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C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fterij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patitis 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patitis 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emophilus influencae tip 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fluenca (inaktivisana vakcin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fluenca (živa vakcin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ole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ug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apanski encefalit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ningoko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rbil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m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rtus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neumokok konjugovana vakci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neumokok polisaharidna vakci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lio (IPV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lio (OPV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b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ube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etanu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bušni tifu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ularemij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ariče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ario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Žuta grozn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3008160" y="333360"/>
            <a:ext cx="38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00"/>
                </a:solidFill>
                <a:latin typeface="Arial"/>
              </a:rPr>
              <a:t>ŠOK U AKUŠERST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709200" y="1197000"/>
            <a:ext cx="91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Šok se definiše kao </a:t>
            </a:r>
            <a:r>
              <a:rPr b="0" i="1" lang="sr-Latn-CS" sz="2400" spc="-1" strike="noStrike">
                <a:solidFill>
                  <a:srgbClr val="ffff00"/>
                </a:solidFill>
                <a:latin typeface="Arial"/>
              </a:rPr>
              <a:t>“prestanak efikasne cirkulacije na nivou ćelije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087000" y="2637000"/>
            <a:ext cx="36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HEMORAGIČKI Š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344520" y="3645000"/>
            <a:ext cx="934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U odmakloj trudnoći krvarenje je posledica: abruptio placentae, placenta praevia, toksemia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Intrapartalno i postpartalno krvarenje je posledica: carskog reza, atonije uterusa, laceracije, zaostale placente, inverzije uterusa, urasle po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lj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3013920" y="189000"/>
            <a:ext cx="36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HEMORAGIČKI Š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-10440" y="907920"/>
            <a:ext cx="960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Arial"/>
              </a:rPr>
              <a:t>Posthemoragički šok       Vazomotorni šok             Kardiogeni š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Arial"/>
              </a:rPr>
              <a:t>                                      </a:t>
            </a:r>
            <a:r>
              <a:rPr b="1" lang="sr-Latn-CS" sz="2400" spc="-1" strike="noStrike">
                <a:solidFill>
                  <a:srgbClr val="33cc33"/>
                </a:solidFill>
                <a:latin typeface="Arial"/>
              </a:rPr>
              <a:t>(paralitični-peritoneln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202320" y="1916280"/>
            <a:ext cx="306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lacenta praev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Abruptio placent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Ruptura ut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Ruptura arteria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uterin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Sindrom vene ka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3152880" y="1916280"/>
            <a:ext cx="3887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Ruptura ut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Appendicitis perfora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Torsio tu. Ovar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Trombosis vv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mesenter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Ile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artus protrac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Chorioamnion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Epiduralna anestez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D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6792840" y="1916280"/>
            <a:ext cx="311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Infarctus myocard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Vitium cord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Embolija plodovom  vod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1089360" y="189000"/>
            <a:ext cx="74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FIZIOLOŠKE REAKCIJE NA GUBITAK KRV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200160" y="836640"/>
            <a:ext cx="9705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Receptori u karotidnom sinusu i velikim arterijama u grudnoj duplji reaguju na promene napetosti zida krvnog suda, aktivirajući simpatički nervni sistem i koru nadbubreg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ozitivni inotropni efek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ozitivni hronotropni efek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ovećani minutni volumen sr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snižen filtracioni pritisak u kapilar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smanjenje filtracionog pritiska u glomerul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ovećano lučenje renina         povećana produkcija aldosterona i  angiotenzina 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aktivacija generalizovanog venskog reflek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ubrzana sinteza proteina, albumina, fibrinogena, faktora koagulacije i eritropoe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4089240" y="436572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785880" y="189000"/>
            <a:ext cx="85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OPŠTI PRINCIPI PRIMENE LEKOVA U TRUDNOĆ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72880" y="836640"/>
            <a:ext cx="914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Farmakodinamska svojstva leka (dejstvo leka na organizam ili pojedine organe – ono što lek čini organizm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Farmakokinetska svojstva leka (apsorpcija, transfer, metabolizam, razgradnja i izlučivanje leka iz organizma – ono što organizam čini leku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Object 7"/>
          <p:cNvGraphicFramePr/>
          <p:nvPr/>
        </p:nvGraphicFramePr>
        <p:xfrm>
          <a:off x="560520" y="2708280"/>
          <a:ext cx="87850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520" y="2708280"/>
                    <a:ext cx="87850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3713040" y="189000"/>
            <a:ext cx="22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FAZE ŠO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0" y="836640"/>
            <a:ext cx="9906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33cc33"/>
                </a:solidFill>
                <a:latin typeface="Arial"/>
              </a:rPr>
              <a:t>Prva faza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– kompenzovani šok: normotona tahikardija, faza centralizacije (smanjenje amplitude krvnog pritiska), tahikardija, hladoća i bledilo kože, indeks šoka (puls / sistolni krvni pritisak) je 1,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33cc33"/>
                </a:solidFill>
                <a:latin typeface="Arial"/>
              </a:rPr>
              <a:t>Druga faza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– dekompenzovani šok: hipotonatahikardija, poremećaj mikrocirkulacije u vitalnim organima, smanjenje sistolnog pritiska (60-80 mmHg), tahikardija, oligurija (manje od 30 ml/h) hladna cijanotična koža, duboko disanje, acidoza, indeks šoka 1,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33cc33"/>
                </a:solidFill>
                <a:latin typeface="Arial"/>
              </a:rPr>
              <a:t>Treća faza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– ireverzibilni šok: nekompenzovane hipoksične i acidotične promene na vitalnim organima, smanjenje sistolnog pritiska (manje od 50 mmHg), tahikardija, anurija, acidoza, duboko disanje, somnolencija, indeks šoka veći od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1866600" y="620640"/>
            <a:ext cx="615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METABOLIČKE PROMENE U ŠO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0" y="1844640"/>
            <a:ext cx="9906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Metabolizam proteina       povećane količine uree i mokraćne kiseline u serum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Metabolizam masti        povećan nivo slobodnih masnih kiseli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Metabolizam ugljenih hidrata         povećana glikem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3440160" y="2421000"/>
            <a:ext cx="431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7"/>
          <p:cNvSpPr/>
          <p:nvPr/>
        </p:nvSpPr>
        <p:spPr>
          <a:xfrm>
            <a:off x="3081240" y="357336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>
            <a:off x="4521240" y="4292640"/>
            <a:ext cx="431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2586240" y="189000"/>
            <a:ext cx="469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KLINIČKA RAZMATRAN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852840" y="981000"/>
            <a:ext cx="76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Arial"/>
              </a:rPr>
              <a:t>Posthemoragični š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Subpartalni šok sa vaginalnim krvarenje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Subpartalni šok sa unutrašnjim krvarenj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Subpartalni šok usled rupture a.uterin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Subpartalni šok bez gubitka krvi (sindrom vene kave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854640" y="3068640"/>
            <a:ext cx="607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Arial"/>
              </a:rPr>
              <a:t>Vazomotorni (peritonelni) šok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d rupture uter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d perforativnog apendiciti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d produženog porođa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d epiduralne anestez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d chorioamnionitisa (endotoksični šok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853920" y="5516640"/>
            <a:ext cx="40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Arial"/>
              </a:rPr>
              <a:t>Kardiogeni š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Infarctus myocard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Embolija plodovom vod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3373560" y="333360"/>
            <a:ext cx="30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TERAPIJA ŠO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272880" y="1413000"/>
            <a:ext cx="963324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onzervativni tretman: tamponada, amp. oxytocin, amp.  prostaglandin (E</a:t>
            </a:r>
            <a:r>
              <a:rPr b="0" lang="sr-Latn-C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l-GR" sz="2400" spc="-1" strike="noStrike" baseline="-25000">
                <a:solidFill>
                  <a:srgbClr val="ffff00"/>
                </a:solidFill>
                <a:latin typeface="Arial"/>
              </a:rPr>
              <a:t>α</a:t>
            </a:r>
            <a:r>
              <a:rPr b="0" lang="sr-Latn-CS" sz="2400" spc="-1" strike="noStrike" baseline="-25000">
                <a:solidFill>
                  <a:srgbClr val="ffff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sr-Latn-C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l-GR" sz="2400" spc="-1" strike="noStrike" baseline="-25000">
                <a:solidFill>
                  <a:srgbClr val="ffff00"/>
                </a:solidFill>
                <a:latin typeface="Arial"/>
              </a:rPr>
              <a:t>α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Hirurški postupci: podvezivanje a.uterinae, a.hypogastricae, puerperalna histerektom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Nadoknada volumena krvi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a) kristaloidi (Ringer – laktat, fiziološki rastv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b) koloidi (zamenici plazme – Dekstran, serum albumini, puna krv, eritrociti, trombociti, sveža smrznuta plazm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0" y="620640"/>
            <a:ext cx="99061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Arial"/>
              </a:rPr>
              <a:t>Transfer leka u placentno – fetalnu jedinicu zavisi od: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Fizičko - hemijskih osobina leka (molekulska težina, liposolubilnost, stepen jonizovanost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Debljine – zrelosti postelj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rokrvljenosti postelji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Metaboličke aktivnosti postelji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Gradijenta Ph između krvi majke i ploda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(↑transfer baznih supstanc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ermeabilnosti barijera (krvno-moždana), metabolizma u jetri fetusa, ekskrecije putem posteljice i fetalnih bubreg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266760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643320" y="333360"/>
            <a:ext cx="853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SUDBUINA LEKA 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MATERNO – PLACENTNO – FETALNOJ JEDINIC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Object 4"/>
          <p:cNvGraphicFramePr/>
          <p:nvPr/>
        </p:nvGraphicFramePr>
        <p:xfrm>
          <a:off x="415800" y="1700280"/>
          <a:ext cx="934560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1700280"/>
                    <a:ext cx="93456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488880" y="33336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ANATOMSKE I FIZIOLOŠKE PROMENE U ORGANIZMU TRUDNICE KOJE UTIČU NA SUDBINU LE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0" y="1341360"/>
            <a:ext cx="990612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Smanjena peristaltika digestivnog trakta (</a:t>
            </a:r>
            <a:r>
              <a:rPr b="0" lang="sr-Latn-CS" sz="2400" spc="-1" strike="noStrike">
                <a:solidFill>
                  <a:srgbClr val="00b050"/>
                </a:solidFill>
                <a:latin typeface="Arial"/>
              </a:rPr>
              <a:t>povećana apsorpcija hidrosolubilnih lekova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Muka i povraćanje (u ranoj trudnoć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ovišen cirkulatorni volumen (u zadnjem trimestru za 3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ovišen minutni srčani volum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ovišen renalni krvni protok (za 25 – 50 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ovećana glomerularna filtracija (za 50%) – </a:t>
            </a:r>
            <a:r>
              <a:rPr b="0" lang="sr-Latn-CS" sz="2400" spc="-1" strike="noStrike">
                <a:solidFill>
                  <a:srgbClr val="00b050"/>
                </a:solidFill>
                <a:latin typeface="Arial"/>
              </a:rPr>
              <a:t>povećana eliminacij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Snižene vrednosti albumina u plazmi (za oko 1g / 100ml) – </a:t>
            </a:r>
            <a:r>
              <a:rPr b="0" lang="sr-Latn-CS" sz="2400" spc="-1" strike="noStrike">
                <a:solidFill>
                  <a:srgbClr val="00b050"/>
                </a:solidFill>
                <a:latin typeface="Arial"/>
              </a:rPr>
              <a:t>povećane koncentracije slobodnog le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Enormni porast telesne tež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ovećana prokrvljenost kož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428400" y="620640"/>
            <a:ext cx="904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PRIMENA LEKOVA U TRUDNOĆI I TERATOGENEZ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0" y="1285920"/>
            <a:ext cx="9906120" cy="59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Prema definiciji Svetske zdravstvene organizacije, teratogeneza predstavlja naučnu disciplinu koja izučava neželjene efekte na morfološkom, biohemijskom i psihološkom planu, koji se mogu javiti kod ploda u razvoj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buClr>
                <a:srgbClr val="00b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b050"/>
                </a:solidFill>
                <a:latin typeface="Arial"/>
              </a:rPr>
              <a:t>Mali broj dokazano teratogenih lekova, najveći broj sumnjivi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buClr>
                <a:srgbClr val="00b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b050"/>
                </a:solidFill>
                <a:latin typeface="Arial"/>
              </a:rPr>
              <a:t>Najosetljiviji periodi za malformacij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b050"/>
                </a:solidFill>
                <a:latin typeface="Arial"/>
              </a:rPr>
              <a:t>CNS 15. – 25. d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b050"/>
                </a:solidFill>
                <a:latin typeface="Arial"/>
              </a:rPr>
              <a:t>Srce 20. – 40. d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b050"/>
                </a:solidFill>
                <a:latin typeface="Arial"/>
              </a:rPr>
              <a:t>Ekstremiteti 24. – 46. d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1502280" y="189000"/>
            <a:ext cx="69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FDA KATEGORIZACIJA LEKOVA U TRUDNOĆ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15800" y="692280"/>
          <a:ext cx="9217080" cy="5797440"/>
        </p:xfrm>
        <a:graphic>
          <a:graphicData uri="http://schemas.openxmlformats.org/drawingml/2006/table">
            <a:tbl>
              <a:tblPr/>
              <a:tblGrid>
                <a:gridCol w="4608720"/>
                <a:gridCol w="4608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POTREBA U TRUDNOĆ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POTREBA TOKOM DOJENJ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 = “Najbolji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pitivanja nisu pokaz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</a:t>
                      </a: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 rizik za plod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 toj kategoriji je jako malo lekova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pr.: vitamini rastvorljivi u vodi, in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</a:t>
                      </a: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lin, tiroks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1 = Najsigurnij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z rizika u kontrolisanim ogledima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pr.: insulin, hepar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 = “Dobr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ije nađen rizik za plod kod životinja, ali nije bilo ogleda na ljudima il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izik postoji kod životinja, ali u sprovedenim studijama nije dokazan kod ljudi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pr.: većina antibiotik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2 = Sigurn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učeni na manjem broju žena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pr.: nitrofurantoin, cefalosporini, druga generacija antihistaminika, prednison, selektivni inhibitor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</a:t>
                      </a: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čuvanj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 </a:t>
                      </a: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rotoni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 = “Oprez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željeni efekti kod životinja, nema podataka za lju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pr.:atropin, sulfacetami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ćina lekova je u klasi “C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3 = Umereno sigurn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isu proučavani ili minimalni rizik u ispitivanjima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pr.: antihistaminici prve generacij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 (M) = Proizvođač zahteva klasu C!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riginalno bi se mogli svrstati i u “B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1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 = “Opasni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kazan rizik za plod kod čoveka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Čuvati za po život opasna stanja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pr.: ACE inhibitori, Eftil (</a:t>
                      </a:r>
                      <a:r>
                        <a:rPr b="0" lang="sr-Latn-CS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Kepra</a:t>
                      </a: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hipotenzija fetusa i agenezija bubreg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4 = Rizičn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kazani neželjeni efekti, razmatrati samo ako je ugrožen život majke, prekinuti dojenj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pr.: litium, derivati ergotami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 = Dokazani teratogeni efeka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 sme se davati u trudnući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pr.: talidomid, varfarin, metotreksat, alfa-2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</a:t>
                      </a: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interfer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5 = Kontraindi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ovan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Značajan potvrđen rizik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pr.: radioaktivni izotopi, kokain, ACE inhibitor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1427400" y="0"/>
            <a:ext cx="68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PREGLED SIGURNO TERATOGENIH LEKO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72880" y="557280"/>
          <a:ext cx="9217080" cy="6316560"/>
        </p:xfrm>
        <a:graphic>
          <a:graphicData uri="http://schemas.openxmlformats.org/drawingml/2006/table">
            <a:tbl>
              <a:tblPr/>
              <a:tblGrid>
                <a:gridCol w="2016360"/>
                <a:gridCol w="2592360"/>
                <a:gridCol w="1800360"/>
                <a:gridCol w="2808000"/>
              </a:tblGrid>
              <a:tr h="32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5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LEK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5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EFEKAT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5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LEK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5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EFEKAT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minopterin (antimet</a:t>
                      </a:r>
                      <a:r>
                        <a:rPr b="0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</a:t>
                      </a: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olit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bačaj, anomalije skelet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thanol (zloupotreba alkohola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r</a:t>
                      </a:r>
                      <a:r>
                        <a:rPr b="0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</a:t>
                      </a: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ifacijalne i nenormalnosti ekstremiteta, mikrocefalij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-Azauridin (citostatik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bačaj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-Fluorouracil (antimetabolit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družene anomalije unutrašnjih organ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usulfan (alkilirajući citostatik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ltiple visceralne anomalij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odidi (antitusik, antiseptik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etalna struma, PPROM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06920"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rbamazepin (antikonvulziv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raniofacijaln</a:t>
                      </a:r>
                      <a:r>
                        <a:rPr b="0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</a:t>
                      </a: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, kardiovaskularne</a:t>
                      </a:r>
                      <a:r>
                        <a:rPr b="0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,</a:t>
                      </a: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alformacije centralnog nervnog sistem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henytoin (antikonvulziv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dantoinski sindrom, vučija čeljust, vučija usna, mikrocefalija, mentalna retardacija, neuroblasto</a:t>
                      </a:r>
                      <a:r>
                        <a:rPr b="0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lorambucil (alkilirajući citostat</a:t>
                      </a:r>
                      <a:r>
                        <a:rPr b="0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genenezija bubreg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thotrexat (antimetabolit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omalije skeleta, smrt plod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loroquin (antimalarik, amebicid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totoksičnost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thiumcarbonat (antidepresiv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ardivaskularne malformacij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yclophosphamid (alkilirajući citostatik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lformacija prstiju, oka, rascep nepc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estosteron (androgen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irilizacija ženske dec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ytarabin (antimetabolit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efekti ekstremiteta i deformacije uv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etracyclini (antibiotici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bojenost zub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ethylstilbestrol (sintetski estrogen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enoza vagine i uterusa, hipotrofija testisa, neplodnost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lidomid (sedativ, trankv</a:t>
                      </a:r>
                      <a:r>
                        <a:rPr b="0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</a:t>
                      </a: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n</a:t>
                      </a:r>
                      <a:r>
                        <a:rPr b="0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</a:t>
                      </a: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komelija, atrezija ezofagu</a:t>
                      </a:r>
                      <a:r>
                        <a:rPr b="0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</a:t>
                      </a: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, anomalije lica i sluh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xycycline (</a:t>
                      </a:r>
                      <a:r>
                        <a:rPr b="0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tibiotik</a:t>
                      </a: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bojenost zub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alpr</a:t>
                      </a:r>
                      <a:r>
                        <a:rPr b="0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</a:t>
                      </a: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c acid (antikonvulziv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efekt n</a:t>
                      </a:r>
                      <a:r>
                        <a:rPr b="0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</a:t>
                      </a:r>
                      <a:r>
                        <a:rPr b="0" lang="sr-Latn-C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ralne tube, anomalije lica i prstiju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1146960" y="404640"/>
            <a:ext cx="80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LEKOVI SA VEROVATNIM TERATOGENI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DEJSTV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44520" y="1341360"/>
          <a:ext cx="9217080" cy="4724640"/>
        </p:xfrm>
        <a:graphic>
          <a:graphicData uri="http://schemas.openxmlformats.org/drawingml/2006/table">
            <a:tbl>
              <a:tblPr/>
              <a:tblGrid>
                <a:gridCol w="2016000"/>
                <a:gridCol w="2592360"/>
                <a:gridCol w="1944720"/>
                <a:gridCol w="2664000"/>
              </a:tblGrid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LE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EFEK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LE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EFEK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mpitriptylin (triciklični antidepresiv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Češće malformacij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chlorethamin (alkilirajući citostatik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ubrežne, kraniofacijalne i anomalije ekstremite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pirin (inhibitor sinteze prostaglandin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Češće malformacij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clizin (antihistminik, antiemetik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omalije usta i l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dein (analgetik i antitusik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zne malformacij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droxyprogesteron (hormo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pertrofija klitorisa, hipospadij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azepam (trankvilans, miorelaksan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omalije usta, lica i sr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henilephrin (vazokonstrikto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zne i nestalne anomalij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7-</a:t>
                      </a: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estradiol (estroge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enitourinarne anomalij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henylpropanolamin (vazokonstrikto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zne i nestalne prome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loperidol (psihofarmak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sigurne anomalij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iamcinolon (sitetski glikokortikosteroi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od čoveka nejas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1:33:48Z</dcterms:created>
  <dc:creator>Goga</dc:creator>
  <dc:description/>
  <dc:language>en-US</dc:language>
  <cp:lastModifiedBy>User</cp:lastModifiedBy>
  <dcterms:modified xsi:type="dcterms:W3CDTF">2014-06-03T11:33:37Z</dcterms:modified>
  <cp:revision>69</cp:revision>
  <dc:subject/>
  <dc:title>Slide 1</dc:title>
</cp:coreProperties>
</file>