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186-0B7C-4127-8B01-8D3E9082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39B-93CA-4AB2-BD5A-B293F42F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668-EE8D-4307-A121-E75B08C6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0A5-5E40-4202-89C7-138D2D79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670A-3F3C-4379-A47E-90E294A8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D8B5-FA95-4EDB-AE94-EF149433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5BAE-8AB1-4EA1-B026-14F15173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7AA4-F8AC-40CF-B0C4-7075F8B9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6DD8-2423-46A8-BF0D-BDE5DE4A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7F47-FCB0-4BD6-A049-2F6E8E1D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D56-4A20-4846-892D-E3B15A64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73B-E1D5-45E7-A3FB-04AE8D21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F28E-0A2F-400B-9381-5410A97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1812-CE1A-4262-A31D-21EA0B6B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1033-E587-42D0-AEA3-FC469314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BDE0-0F9F-49CC-B338-DDB1C512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C7B5-9B2C-4BFB-86A5-B754E509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223D-5753-4AA9-A2DE-184B435B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E3612-4124-4D57-B1B9-80A2B64B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A562-7CD1-4430-A5C5-A2A5383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174E-D2C4-4D41-AA24-3EC832AE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3B69-E22B-4969-AA4B-06654136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936-B2BC-4DF0-87ED-25AB36BE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377D-125C-4958-A96C-2D0C5B4B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23B9-0F48-488D-84B4-EC9F716A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DC9B-FB28-4566-942A-A927B15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F69F-DC19-4BF2-9F56-09FF1B5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7F91-5252-45A6-A415-0796D453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D776-B409-44EE-93D9-21C1E4B6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A248-4B04-4D94-9D5B-F5AFDF30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69B0-BA48-4EB8-A262-3BD75828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8235-2EB6-4E06-AD2F-05EDDF63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58A5-1CE5-4DE6-B036-F4CBE5C8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CF8-CF50-4FA8-808C-867C25B0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B535-06DB-485C-BC25-C60B8748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FB16-042D-4A91-931A-51E6C41E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DA79-0923-4C9D-94D1-5D8884C9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C5704-0D57-4627-9BE8-22BC6CD7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C701-118B-4CB4-BC81-F3DC5680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806C-E367-4927-B560-8D4204B8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EEF49-DA44-487A-B741-D682B727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EB0B-93A8-4C0D-8F2A-AD5A5496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3E4D-4E7B-4EA2-A53C-B7D2551B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C2218-2141-4ABE-B932-FC03DF01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158-CA8F-4982-A051-6029714B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41D0D-E716-4525-9279-666909E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AD0E3-22F4-48E1-B249-C6F7896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178F-4436-423C-88DF-5DA03CCE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3D61-07FE-4F35-85A0-0182AB87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5E401-CDE3-48C0-8B18-682387DB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BB44-0D98-4CE5-94E7-AB7A407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14DFF-EE3D-402E-A259-53D7A684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D6519-5B2E-4B7A-BBA0-F6773599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304A-EEBF-4DB7-812B-85F76442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DC367-1CB0-42D3-AEA3-1E1DE724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7CE-8339-4847-9BAB-540D1FBC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82CE-0D86-41BF-9B2D-6E30C7A6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4F0-C8B2-4606-8552-D34472F2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97B-A37B-49FF-AA84-98B50040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544-AF12-4E18-9E4C-9BEFCD4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0200-F76A-4852-9F7C-14675C9B04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3CC0-1AD6-4871-8387-C74DBC0128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DD18-BC5E-4B93-A8BB-E6F76EB7B5F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A9AB-ECFE-408B-96C8-4BF64BCF7B1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7E73-2328-4C3B-9F4C-75EE29B384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s://www.google.rs/url?sa=i&amp;rct=j&amp;q=&amp;esrc=s&amp;source=images&amp;cd=&amp;cad=rja&amp;uact=8&amp;ved=2ahUKEwiOu_bFhezaAhVC46QKHY5UDX8QjRx6BAgBEAU&amp;url=https%3A%2F%2Fradiopaedia.org%2Fcases%2Fcomplete-hydatidiform-mole&amp;psig=AOvVaw137ii1x8QHuaX2oHHAgPjj&amp;ust=1525522823445549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Гестацијске трофобластне болести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рапија моларне трудноће је вакум аспирација утерусног каву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тервенција се врши са повећаним опрезом уз обавезну ив. апликацију  синтоцинон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случају перзистетног крварења интервенција се понавља 48-72 сата након прв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бавезно је праћење нивоа BHCG прво на две недеље, потом на месец дана до двоструке узастопне негативне вредно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ауза до наредне трудноће 6-12 месец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нвазивна мола (Моlla destruens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сновна карактеристика овог типа ГТБ је инвазија миометријума и околних ткива(вагина, параметријум, висцерални перитонеум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Јавља се у 10-15% моларних трудноћа, односно 1/15000 трудноћ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рло ретко даје метастазе које најчешће се локализују на вагини, широким везама, плућима и мозг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оже да алтерише у хорикарцн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нвазивна мола (Моlla destruens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ијагноза се поставља на основу клиничке слике, ултразвучног налаза, МР или КТ код постојања метастаз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Лечење је конзервативно применом цитостатик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etotreksat, Actinomycin D, cyclophospamid + фолна киселин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Прећење вредности BHCG-a godinu dan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Content Placeholder 6" descr="Invasive.jpg"/>
          <p:cNvPicPr/>
          <p:nvPr/>
        </p:nvPicPr>
        <p:blipFill>
          <a:blip r:embed="rId1"/>
          <a:stretch/>
        </p:blipFill>
        <p:spPr>
          <a:xfrm>
            <a:off x="755640" y="2133720"/>
            <a:ext cx="37242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ориокарцином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едак облик гестацијске трофобластне неоплаз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бедљиво најчешће настаје после моларне трудноће или ектопичне трудноћ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едставља малигну алтерацију ћелија трофобласта без присуства хорионских ресица, строме и крвних судов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е је хируршко (хистеректомија); чак и код удаљених метастаза има добру прогнозу јер реагује добро на хемиотерапи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рофобластни тумор плацентног лежишт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стаје услед пролиферације цитотрофобласта на лежишту постељице која инфилтрише даље у миометрију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 разлику од хориокарцинома настаје најчешће током или након нормалне трудноћ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линичка слика је оскудна јавља се болно увећање утеруса уз аменореј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арактеристика ове врсте ГТН је знатно мања синтеза HCG-a, а знатно већа HPL-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ечење је искључиво хируршко (хистеректомиј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62" name="Content Placeholder 3" descr="2995-0550x0475.jpg"/>
          <p:cNvPicPr/>
          <p:nvPr/>
        </p:nvPicPr>
        <p:blipFill>
          <a:blip r:embed="rId1"/>
          <a:stretch/>
        </p:blipFill>
        <p:spPr>
          <a:xfrm>
            <a:off x="2195640" y="1628640"/>
            <a:ext cx="5113080" cy="47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Гестацијске трофобластне болести (ГТБ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егенеративно пролиферативни процеси у постељици, односно делу постељице који је феталног порекл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едстављају ретку форму поремећене трудноће у Европи и Америци (1/2000 трудноћа), али врло честу код људи жуте расе (1/200 трудноћ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су резултат нумеричких хромозомских аберација  зигота, односно поремећај настаје у току самог процеса оплодње (диспермија, инактивација  мајчиног генома у зиготу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тиопатогенеза ГТБ 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основи ГТБ је појачана пролиферација/ инвазивност  цитотрофобласта у односу на остале структур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Раст и разој ћелија трофобласта је контролисан од стране ендокриних, аутокриних и паракриних факто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Хормони BHCG и прогестерон имају супресивну улогу на мајчин имунски одговор и инхибирају примарни и секундарни имунски одговор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д њиховом контролом се инхибише синтеза интерлеукина и TNF који имају супресивни ефекат на инвазивност трофобласта, а стимулише синтеза интерферона и цитокина који имају супротни ефека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Гестацијске трофобластне болести (ГТБ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Основна подела ГТБ-и је на моларне (садрже хоринске ресице) и немоларне; основна клиничка подела је на неинвазивне и инвазив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Неинвазивне моларне трудноће могу да буду парцијалне или комплет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Инвазивне моларне трудноће могу да буду у облику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Инвазивне моле 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la destruen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Хориокарцино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Тумора плацентног лежиш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Епителоидног трофобластног тумо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се јавља код старијих трудница, чешће код прворотк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циденца за појаву моларних трудноћа расте после претходне моларне трудноћ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активацијом мајчиног генома у зиготу дуплира се само генетески материјал оца нормални кариотип (46XX); то је најчешћи механизам код комплетне моларне трудноће- нема феталног тки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Моле које садрже фетално ткиво су парцијалне моле и настале су  оплођењем нормалне јајне ћелије диспермијом- триплоидни број хромозома (69 XXX,XXXY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Коплетне моларне трудноће имају већи потенцијал за малигну алтерациј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Content Placeholder 5" descr="Partial mola.jpg"/>
          <p:cNvPicPr/>
          <p:nvPr/>
        </p:nvPicPr>
        <p:blipFill>
          <a:blip r:embed="rId1"/>
          <a:stretch/>
        </p:blipFill>
        <p:spPr>
          <a:xfrm>
            <a:off x="1332000" y="1773360"/>
            <a:ext cx="3051000" cy="2385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Резултат слика за complete hydatidiform mole pic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4221000"/>
            <a:ext cx="3095640" cy="22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У клиничкој слици моларне трудноће јављају с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Брзо увећање утерус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Вагинално крварењ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Мучнина, повраћањ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Лутеинске цисте јајника (због хипестимулације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IH, preeclampsi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Основни лабораторијски показатељ моларне трудноће је абнормални скок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HCG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ји може да доведе до хиперстимулације оваријума, знакова хиперемезе, па чак и хипертиреоидизма(због сличности у грађи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HCG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SH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77336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Дијагноза моларне трудноће се поставља на основу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линичке слик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Ултразвучног налаза- карактеристичан налаз је увећање материчног кавума са или без фетуса са цистично измењеном постељицом или слика ,,снежне мећаве’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Лабораторијских анализа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HCG-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вредности веће неколико пута од нормалних, користи се и за праћењ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MR, CT- 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код сумње на инвазивне форме боле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оларна трудноћа (Molla hydatidos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иференцијално дијагностички у обзир долази: нормална трудноћа, претећи побачај, спонтани побачај, ектопична трудноћа, фетална еритробластоз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Дефинитивна дијагноза се поставља само на основу хистопатолошког налаза!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Content Placeholder 5" descr="Snowstorm.jpg"/>
          <p:cNvPicPr/>
          <p:nvPr/>
        </p:nvPicPr>
        <p:blipFill>
          <a:blip r:embed="rId1"/>
          <a:stretch/>
        </p:blipFill>
        <p:spPr>
          <a:xfrm>
            <a:off x="960480" y="2133720"/>
            <a:ext cx="36576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20:44Z</dcterms:modified>
  <cp:revision>218</cp:revision>
  <dc:subject/>
  <dc:title>ФАКУЛТЕТ МЕДИЦИНСКИХ НАУКА УНИВЕРЗИТЕТ У КРАГУЈЕВЦУ</dc:title>
</cp:coreProperties>
</file>